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9F1-97F9-4B57-BEAE-B8736D1D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42D-B18C-4B99-A7C0-14D1A87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7A9-2E5B-41D3-A841-CB4894A4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FE9-8A32-44BE-81E6-988432D7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ABA-7E75-4080-A67D-BF24C86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1C9-C64C-4267-BD1F-B4E858D6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BF7-A7AC-4995-9D3B-A903883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025-D956-4599-90F7-5C89E070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31B-4D66-4FD8-B72B-AED6E205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C31-8520-46D3-A63B-0AE909F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02B-108B-4C16-936F-E0C6066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684-5790-4703-B7F9-57A4B02D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C97037FD-8399-4579-A4B2-1AA176D86A53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esentation Titl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sub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title,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opic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opi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453-582A-4032-9013-FA4144CA41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project, started March 2006, funded by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4CE-958C-4178-A230-48A3FA956D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453-2C99-4D4F-B728-B786E40027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icipating EXPReS Telescop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957-6A4A-4477-9528-15ED0879C2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068480"/>
            <a:ext cx="7696440" cy="50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603-3367-44A1-9172-50195BA8F9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 (Interim)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778-7440-4565-96A6-66D2A4E6B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tit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]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AE3-6E82-42C5-818E-E576FAA887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7-10T09:39:54Z</dcterms:modified>
  <cp:revision>26</cp:revision>
  <dc:subject/>
  <dc:title>Slide 1</dc:title>
</cp:coreProperties>
</file>